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783-67B3-417F-A724-EB707E88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49C-B39B-47FA-8D8C-286DF36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7C0-3817-433C-97B7-95279871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C5B-B385-4001-8F45-722B6AEC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168-403D-401B-A399-D1F4AD9A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F4C4-9286-4F52-9F3E-C8D4A61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FF8-6A70-4C89-9B6D-3CE0875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049-97BF-44DC-9113-BFF30ED7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BF87-65EE-4724-B282-9E8F2D69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AFC8-2075-44AF-89F8-42EDC7B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516-CBF8-48D2-A530-381991E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D54-AEAD-43CF-B0C0-3B49D3E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ABCF-52CC-4E39-8854-811EF26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B3C-D941-40D3-BDA3-B925832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DA3-4AA6-4EA2-A1EC-9D7A166C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7EC-509B-4235-B3E2-F2654F17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8DCD-8292-4816-A2B7-75202B6A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D17-EF31-4F19-9ACE-48B7F1A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D8F-B6A5-4269-90E6-05B4BE21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F94-3B0B-47A5-9F47-3B90095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13B-1949-4C47-9A40-4DA7FD0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904-D1C2-4C6B-B799-E8F9A31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25B-D882-4813-810D-D248642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0E9-C6DC-4865-BE15-7B88AB4D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E43-7D9E-4AFE-84E8-0D7E0CDA8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2F0D-6588-4B2E-90D3-FA8EA6D52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Безопасный путь в школ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vetofor.mp3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08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Calibri"/>
              </a:rPr>
              <a:t>Дорогу можно переходить только  н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-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расный мигающий свет светоф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-мигающий  с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-зеленый с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-желт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гшшш8ш"/>
          <p:cNvPicPr/>
          <p:nvPr/>
        </p:nvPicPr>
        <p:blipFill>
          <a:blip r:embed="rId1"/>
          <a:srcRect l="32865" t="41086" r="32865" b="32650"/>
          <a:stretch/>
        </p:blipFill>
        <p:spPr>
          <a:xfrm>
            <a:off x="6012000" y="3500280"/>
            <a:ext cx="2590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ак правильно и безопасно перейти улицу  после выхода из автобус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6388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одождать когда транспорт отъед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-сесть на капот другой машины, и попросить, чтобы перевезл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-перейти по пешеходному перех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ntique Olive Compact"/>
              </a:rPr>
              <a:t>ИГРА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660066"/>
                </a:solidFill>
                <a:latin typeface="Antique Olive Compact"/>
              </a:rPr>
              <a:t>ЭТО Я, ЭТО Я, ЭТО ВСЕ МОИ ДРУЗЬЯ!</a:t>
            </a: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331280" y="835200"/>
            <a:ext cx="452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то из вас в вагоне тес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ступил старушке мес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897480" y="1771920"/>
            <a:ext cx="71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б проветриться в троллейбусе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то и голову, и туловище высунул в окош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186200" y="2706840"/>
            <a:ext cx="45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то бежит вперед так скор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 не видит светофо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196000" y="364356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нает кто, что свет зеленый 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 дороге каждый смело пусть шаг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124000" y="4579920"/>
            <a:ext cx="43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то вблизи проезже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есело гоняет мя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763720" y="5443560"/>
            <a:ext cx="55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нает кто, что красный све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то значит - хода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3564000" y="2421000"/>
            <a:ext cx="46036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356000" y="1008000"/>
            <a:ext cx="1351080" cy="36504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516720" y="981000"/>
            <a:ext cx="1392120" cy="36504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042920" y="1052640"/>
            <a:ext cx="1297080" cy="43632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64000" y="5734080"/>
            <a:ext cx="2016360" cy="5032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 rot="5400000">
            <a:off x="7056360" y="3824280"/>
            <a:ext cx="1871640" cy="79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771640" y="1582560"/>
            <a:ext cx="1262160" cy="5130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651640" y="4680000"/>
            <a:ext cx="1441440" cy="5032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195640" y="4751280"/>
            <a:ext cx="1366560" cy="5050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268360" y="5734080"/>
            <a:ext cx="1995840" cy="50328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 rot="16200000">
            <a:off x="187200" y="3924360"/>
            <a:ext cx="2038320" cy="7588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РА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5651640" y="1511280"/>
            <a:ext cx="1368360" cy="51264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132000" y="3166920"/>
            <a:ext cx="4048200" cy="843120"/>
          </a:xfrm>
          <a:prstGeom prst="rect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84360" y="142920"/>
            <a:ext cx="82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324000" y="0"/>
            <a:ext cx="0" cy="597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 flipV="1">
            <a:off x="3132000" y="4032000"/>
            <a:ext cx="0" cy="718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6659640" y="2374920"/>
            <a:ext cx="0" cy="79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3635280" y="208764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4932360" y="1440000"/>
            <a:ext cx="0" cy="1655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227640" y="2016000"/>
            <a:ext cx="0" cy="1150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V="1">
            <a:off x="6443640" y="4032000"/>
            <a:ext cx="0" cy="647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V="1">
            <a:off x="5508720" y="4032360"/>
            <a:ext cx="0" cy="1766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V="1">
            <a:off x="4140360" y="4032360"/>
            <a:ext cx="0" cy="1782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3203640" y="2519280"/>
            <a:ext cx="1440" cy="627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1547640" y="1511280"/>
            <a:ext cx="0" cy="1008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6659640" y="2374920"/>
            <a:ext cx="11523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5207040" y="8663040"/>
            <a:ext cx="342720" cy="1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1547640" y="2519280"/>
            <a:ext cx="1656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7812000" y="1366920"/>
            <a:ext cx="1800" cy="1008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1553040" y="548280"/>
            <a:ext cx="58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ПЛАН-СХЕМА БЕЗОПАСНОГО МАРШРУТ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399960" y="-10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187280" y="1628640"/>
            <a:ext cx="651204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Правила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движения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К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аждый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должен зн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И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без промед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И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х </a:t>
            </a:r>
            <a:r>
              <a:rPr b="1" lang="ru-RU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 </a:t>
            </a:r>
            <a:r>
              <a:rPr b="1" lang="en-GB" sz="4000" spc="-1" strike="noStrike">
                <a:solidFill>
                  <a:srgbClr val="a50021"/>
                </a:solidFill>
                <a:latin typeface="Monotype Corsiva"/>
                <a:ea typeface="Times New Roman"/>
              </a:rPr>
              <a:t>нужно выполня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акие автомобили могут про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95640" y="2133720"/>
            <a:ext cx="560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Calibri"/>
              </a:rPr>
              <a:t>-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папина и мам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-так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-пожарная, скора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спецмаши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-гонч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 какой дороге транспортные средства лучше тормозя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504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-на мокр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-на обледенел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-с ям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-на сух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1(4)"/>
          <p:cNvPicPr/>
          <p:nvPr/>
        </p:nvPicPr>
        <p:blipFill>
          <a:blip r:embed="rId1"/>
          <a:stretch/>
        </p:blipFill>
        <p:spPr>
          <a:xfrm>
            <a:off x="5435640" y="3213000"/>
            <a:ext cx="2932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 какого возраста можно ехать на велосипеде по проезжей ча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611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-когда  выйдешь на пенс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-с самого ро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-с 14 л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25"/>
          <p:cNvPicPr/>
          <p:nvPr/>
        </p:nvPicPr>
        <p:blipFill>
          <a:blip r:embed="rId1"/>
          <a:stretch/>
        </p:blipFill>
        <p:spPr>
          <a:xfrm>
            <a:off x="4572000" y="3429000"/>
            <a:ext cx="3564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По какой стороне тротуара рекомендуется двигаться пешеходам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10920" y="2565360"/>
            <a:ext cx="56278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по любой</a:t>
            </a: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по бордю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по правой сторон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по лев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56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Calibri"/>
              </a:rPr>
              <a:t>Когда загорелся зеленый  свет светофора, что ты будешь делат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637000"/>
            <a:ext cx="7761240" cy="22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пропустишь всех старушек и даму с собач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-побежишь со всех н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убедишься, что все транспортные средства остановились и перейдешь доро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alibri"/>
              </a:rPr>
              <a:t>Для чего постовому нужен жезл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приветствовать знаком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отгонять м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для крас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регулировать дорожное дви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Толкачёв Вадим Анатольевич</cp:lastModifiedBy>
  <dcterms:modified xsi:type="dcterms:W3CDTF">2015-03-02T09:42:36Z</dcterms:modified>
  <cp:revision>3</cp:revision>
  <dc:subject/>
  <dc:title>Слайд 1</dc:title>
</cp:coreProperties>
</file>